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328-A253-4017-8D0C-3CA82708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407-D923-4BCD-A19D-3608B47C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8A2-DA12-4CF1-AE8B-A7CCC71F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159-3D2D-4517-BD5B-184824C8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9D66-E73E-4485-80D5-2F9B5843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F285-2AC3-4B61-B2FB-FD975DB3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587-24EA-4475-BAF8-046ECD2A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548C-C9BF-4A70-8BBD-43FAD380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5841-E1E3-44BE-B661-097E6235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625D-D6C9-4B57-AE4C-42244284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28E5-E1DB-4FA3-A121-F67F00C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39C-3004-4419-85B0-FE6BDB8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74AA-50AD-4CDD-B45E-96A0121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4DC-4ACB-48D3-814F-27EA051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D50-50CE-4C91-9947-84744937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7187-E528-4018-82F7-9733F119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CED2-D6B6-4E70-9CB2-3B530340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69D-CECE-4957-9F05-61B2418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D0C-1F28-4471-85E0-7DD1FB75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192-E23C-4933-BDF7-F828486B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555-0C3F-4A40-A349-6C7F5D3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B62-77D9-4D28-A3B1-55BE95C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36E-6BDB-4A64-AC6F-35CA7E7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1E1-17C1-4E3F-9168-F84465A9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5955-A64D-437B-86A1-95D2DE129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2709-C36C-40E9-843C-B4326852E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Long, O Lord?”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 Peter 3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3, Lesson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1 -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to followers that shared the same faith the apostles h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ably written between A.D. 64-68 after Nero’s persecutions beg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knew his life was coming to an end, and he wanted to be sure that followers would have his written reminder after he was g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 P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 - Full, true knowledge is the key to obtaining God’s bless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2 - Beware of false prophets and their doctr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3 - Remember what you have been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d’s Promises Are Sur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-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cond epistle is written to stir up your minds in rememb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spel is not based on cunningly devised fa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ffers will come in the last days doubting Christ’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spoke the world into exis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caused the world to be floo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maintains balance in the world until Christ’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is not slack concerning His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d’s Promises Are Sure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8-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igno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concept of time is different from 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rd is not slack concerning his pro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oes not want any to per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esire is that all rep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Day Of The Lord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0-1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ime of Christ’s return cannot be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th and works therein shall be destr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look forward to new heavens and a new earth where righteousness dw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 Steadfast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Peter 3:14-1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prepared for Christ’s retu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had written to you concerning thes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unlearned and unstable wrest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that you are not led away with the error of the wi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w in grace and in knowled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lse Teach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that plagued Paul were not imm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are false teachers due to ignor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lse teachers can be ta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false teachers seek personal 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ave lost respect for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4-23T15:29:54Z</dcterms:modified>
  <cp:revision>41</cp:revision>
  <dc:subject/>
  <dc:title>Life of Christ, Part 2 In Perea</dc:title>
</cp:coreProperties>
</file>